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22BDA-BEFB-4E19-8940-BE61EDE28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D0115-2294-41AC-8C51-507DF7D55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835EE-7558-4F94-B640-89A085C40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B411E-368E-4233-8695-1FFEBBB2A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5A969-1C76-4B20-A3AC-90E0877C6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EEA49-661C-49BF-A543-5BB46ECBF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84D48-3E87-4058-A269-83C500CC7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26D3C-D1CA-4314-A5C4-3D2E436DC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9D148-CB53-45DF-9F71-059065E50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F5A14-9ACC-4211-8963-9F309DDA8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1F9F8-36EE-4786-A011-FD3AD8519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7E350-DAC7-43C8-B081-FA1A31C4E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66742-A1EF-41B1-B0CC-1FF8D156AD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e believe in God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holy Source of all that i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e believe in God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ho has spoken the eternal Wor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in Jesus Chris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e believe in God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ceaselessly breathing the Spiri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into creatio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33520" y="6095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1 of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685800" y="990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e trust in God’s lov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nd wisdom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fully revealed in the humanity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of Jesus Christ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present to u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through the Spirit’s wor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in the Church and beyon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33520" y="6095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2 of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e believe that God is calling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the whole cre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into a future of justice and peac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3520" y="6095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3 of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e share in Christ’s risen life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nd commit ourselves today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to recei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the coming reign of Go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6095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4 of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To the only God, Three yet One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be all honour and glory and prai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now and for ever. Ame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33520" y="6095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5 of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3:08:39Z</dcterms:created>
  <dc:creator>Anon Anon</dc:creator>
  <dc:description/>
  <dc:language>en-US</dc:language>
  <cp:lastModifiedBy>Anon Anon</cp:lastModifiedBy>
  <dcterms:modified xsi:type="dcterms:W3CDTF">2005-08-09T05:03:36Z</dcterms:modified>
  <cp:revision>7</cp:revision>
  <dc:subject/>
  <dc:title>PowerPoint Presentation</dc:title>
</cp:coreProperties>
</file>